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2A2-49AF-47C3-9AB4-E601C774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D85-EF0F-4140-A440-405E848D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B60-E90F-4E06-B01E-D16B6310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D12-2C06-4DE0-96FF-6E46A25E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21A-BE47-4525-AB73-70E552D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D0E-2563-4EB2-9B70-4F91D7FB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8C5-9038-48B3-A574-5E7B793B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EA5-65AD-4520-9327-8FA81D8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3BA-15FD-4BA3-9D04-EC74ACBC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709-CDD7-4913-84EF-1AEFE7B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EFD-79C6-41F5-A375-BA53F84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7E7-B6C7-4007-8AEB-8444601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9549-F12B-4B86-ABFD-637297E515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attle of Gettysbur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Nate, Jaron, and Brae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imeline of Gettysbur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fore the Batt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s inflict bloody defeat on Union at Fredericksburg, VA. (12/13/6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 defeated again in the Battle of Chancellorsville, VA (April 30-May 6, 18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Stonewall Jackson is shot by his own men in an accident and dies of Pneumonia (May 18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decides to invade North in Spring-Early Summer ‘6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gain supp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l Union forces away from Vicksburg,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asion in North would hurt Lincoln’s political pow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Battle_of_Fredericksburg,_Dec_13,_1862"/>
          <p:cNvPicPr/>
          <p:nvPr/>
        </p:nvPicPr>
        <p:blipFill>
          <a:blip r:embed="rId1"/>
          <a:stretch/>
        </p:blipFill>
        <p:spPr>
          <a:xfrm>
            <a:off x="5410080" y="1312920"/>
            <a:ext cx="3467160" cy="242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ur1506"/>
          <p:cNvPicPr/>
          <p:nvPr/>
        </p:nvPicPr>
        <p:blipFill>
          <a:blip r:embed="rId2"/>
          <a:stretch/>
        </p:blipFill>
        <p:spPr>
          <a:xfrm>
            <a:off x="5257800" y="3924360"/>
            <a:ext cx="3867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419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soldiers led by A.P. Hill went on a search for shoes in Gettysburg, attacked by Union troo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,000 Union troops took the field against 75,000 Confede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s take control over the town of Gettysb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Gettysburg_Battle_Map_Day1"/>
          <p:cNvPicPr/>
          <p:nvPr/>
        </p:nvPicPr>
        <p:blipFill>
          <a:blip r:embed="rId1"/>
          <a:stretch/>
        </p:blipFill>
        <p:spPr>
          <a:xfrm>
            <a:off x="4952880" y="380880"/>
            <a:ext cx="40752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30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orders General James Longstreet to attack at Cemetery Rid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 soldiers attack at an unprotected Union hill known as Little Round T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leaders send Colonel Joshua L. Chamberlain and his men to defend Little Round T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Chamberlain was running low on fuel, he ordered his men to attack the Confederates with fixed bayonets.  This surprise attack left Confederates surrendering in drov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gettysburg_battle_map_day2"/>
          <p:cNvPicPr/>
          <p:nvPr/>
        </p:nvPicPr>
        <p:blipFill>
          <a:blip r:embed="rId1"/>
          <a:stretch/>
        </p:blipFill>
        <p:spPr>
          <a:xfrm>
            <a:off x="228600" y="838080"/>
            <a:ext cx="363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876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e felt could break Union defenses, because Union weake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e ordered an artillery barrage at the middle of Union lines mid afterno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ICKETT’S CHARGE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ngstreet, confident the barrage had silenced Union guns, ordered Confederate troops to attack the center of the Union li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ern artillery resumed its fire and crippled the Confederate attack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e sent General Jeb Stuart’s forces to surprise attack Union General Meade’s for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art’s forces were stalled due to a conflict with Union forces led by Robert Greg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350px-Gettysburg_Battle_Map_Day3"/>
          <p:cNvPicPr/>
          <p:nvPr/>
        </p:nvPicPr>
        <p:blipFill>
          <a:blip r:embed="rId1"/>
          <a:stretch/>
        </p:blipFill>
        <p:spPr>
          <a:xfrm>
            <a:off x="5060880" y="609480"/>
            <a:ext cx="3930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fter the Batt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23,000 Union casualties and 28,000 Confederate Casua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gave up hopes of invading the North and retreated back to Virgi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turned in his resignation which Jefferson Davis did not ac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orth won the Battle of Vicksburg (May 18-July 4th, 18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coln gave the Gettysburg Address in November 186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Dead at Devil's Den"/>
          <p:cNvPicPr/>
          <p:nvPr/>
        </p:nvPicPr>
        <p:blipFill>
          <a:blip r:embed="rId1"/>
          <a:stretch/>
        </p:blipFill>
        <p:spPr>
          <a:xfrm>
            <a:off x="5715000" y="1600200"/>
            <a:ext cx="316224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ghetty600"/>
          <p:cNvPicPr/>
          <p:nvPr/>
        </p:nvPicPr>
        <p:blipFill>
          <a:blip r:embed="rId2"/>
          <a:stretch/>
        </p:blipFill>
        <p:spPr>
          <a:xfrm>
            <a:off x="5410080" y="4267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ignificance of Gettysbur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point in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ppled South so badly, Lee never invaded Northern state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ysburg Address helped nation realize not just a collection of individua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National Treasure 2_0001.wmv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2:04:51Z</dcterms:created>
  <dc:creator>LWeber</dc:creator>
  <dc:description/>
  <dc:language>en-US</dc:language>
  <cp:lastModifiedBy>N4STY</cp:lastModifiedBy>
  <dcterms:modified xsi:type="dcterms:W3CDTF">2012-03-05T19:15:28Z</dcterms:modified>
  <cp:revision>4</cp:revision>
  <dc:subject/>
  <dc:title>The Battle of Gettysburg</dc:title>
</cp:coreProperties>
</file>